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6F24-AFD9-49D2-B056-AA531847C8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5EFF-FE05-41AB-A43F-E5A4E86DB33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F22F-14AB-4FD1-B936-8A7045A8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CABB-868E-44CB-A0D2-A7CB624F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187E-74DD-445B-B1BF-8C8A72A21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43F3-5440-4BFE-871E-6271224EF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2C3D-58D7-4D28-B28F-1A9B43F8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8058-5B61-48D4-B9A8-81D637B6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A114-8104-42C1-A56C-7E688915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E848-5C33-4DB4-90B0-3049C771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B25E-6D97-47A1-8107-CE00113F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4816-401F-417F-93FA-7079332F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C1EA-3CA4-4C43-A3CE-75EFB124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6539-9C80-432A-B0C1-46B879A7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B6CA-E304-47F2-B147-CEBA1773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1576-6804-400E-ADEC-C9BA6CE3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05E3-C94F-46C4-92DA-1DBCE11C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AE7D-C343-4E4F-993D-6C5EC1BAD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EBDD-DE19-472E-B902-CD414E0E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176B-892F-42A0-885A-485F442A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87D0-57A8-4E45-94E4-9BB2E3C7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1AD2-2DA0-4330-9D35-26B18912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4850-1676-4331-B83C-5A67C544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22F8-DD98-437E-9ADD-F0621BC2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E0C6-663F-4280-A93F-C555A2BF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8C30-D797-4177-8C83-60049861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4379-8842-442A-8C91-24F8A47DAB2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BA2E-F422-4325-9E20-47D597D61AA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Тайна воды…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а: студентка 143 группы Сенькина Анна Леонидов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 кружево будто одеты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Деревья, кусты, провода.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И кажется сказкою это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А все это просто во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Безбрежная ширь океана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И тихая заводь пруда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Каскад водопада и брызги фонтана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А в сущности это в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ысокие волны вздымая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Бушует морская вода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И топит, и губит, играя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Большие морские су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от белым легли покрывалом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На землю родную снега…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А время придет – все растает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И будет простая в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а работ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уппов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бный предме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из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стник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щиеся 10 клас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сновополагающий вопрос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то знает уникума планеты Земл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облемные вопросы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сокрыто в замерзшей вод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чему воду называют «жидким золотом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чему камень обливается пото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чебные вопрос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ими важнейшими физическими свойствами обладает вод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чему даже в лютую зиму вода в водоемах не промерзает до дна? Какое это имеет значение для живой природ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чего сделан лед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такое снежинк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м отличаются снежинки и кристаллы льд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связаны пар и вод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такое насыщенный пар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идактические цели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ть понятие об атмосферной и относительной влажности воздуха и их определений, а так же познакомиться с составом атмосферы Земли и Солнечной систе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общить, проанализировать и расширить знания учащихся о воде, ее роли в живой и неживой природе, в жизни челове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ть представление о характерных признаках зимы в неживой природ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формировать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 навыки эмпирического и теоретического исследований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 навыки работы в коллективе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 культуру публичного выступления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учить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 устанавливать причинно-следственные связи, выделять главное, обобщать, систематизировать, делать выводы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 грамотно оценивать достоверность полученной информации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азвить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 мультимедийные умения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 креативные способности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 критическое мышление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казать, что вода — уникальное природное соединение, активная среда для жизни растений, животных и человека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зучить физические и химические свойства воды, рациональное использование водных ресурсов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формировать бережное отношение к воде и к миру в целом, ощущать себя частью этого мира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ктивизировать познавательную деятельность учащихс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Результаты представления исследований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зентация: «Что сокрыто в замерзшей воде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убликация: Почему вода – «жидкое золото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12:56:26Z</dcterms:created>
  <dc:creator>26091</dc:creator>
  <dc:description/>
  <dc:language>en-US</dc:language>
  <cp:lastModifiedBy>26091</cp:lastModifiedBy>
  <dcterms:modified xsi:type="dcterms:W3CDTF">2010-06-05T04:49:50Z</dcterms:modified>
  <cp:revision>26</cp:revision>
  <dc:subject/>
  <dc:title>Вода – это жизнь!</dc:title>
</cp:coreProperties>
</file>